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png" ContentType="image/png"/>
  <Override PartName="/ppt/media/image1.jpeg" ContentType="image/jpeg"/>
  <Override PartName="/ppt/media/image21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63E-9BF2-402C-B334-CEECCCC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7D2-17AD-4398-8CCA-3216D31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6BA-3794-45B4-85CF-817F1C91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857-243D-4DCA-A8E7-F994C10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C222-A8C3-45E5-B2C6-E1784744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01EA-D530-48F0-8A62-4EE0EAB2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EEC4-D13C-4666-AC70-4EC692F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27A4-06AC-48E4-8513-6BE536F0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6AD3-496A-47E0-97D6-B9401EAA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E945-C45F-4CB8-A5AD-3357541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3E77-57F6-4274-AF69-2B3DD17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5F9-872B-4ACE-A1BE-6ADA2845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EC80-4DEB-44CB-9BA4-19AE73E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4C4B-20AD-4EA8-AEA7-D15C21B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71EA-8DF0-418A-BE33-EA8B3587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FD1E-23EE-4243-829E-D416CEB1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B57-32F3-40B1-88C7-97CA7C72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09CD-6FAE-4F74-A2E5-A512858E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0C30-75FA-40BA-8F9B-30927D8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F103-32BC-4F8D-8026-851A4556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35D0-06E7-4BBE-9EBF-D4A0CCB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A021-BEE1-462E-B596-8B8F4C5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680-E562-4786-BB43-7F12C54E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BDBC-7819-482C-A22B-FFE9802A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343E-5728-4C4C-973C-B7DF520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2594-051F-4EAB-A337-5A3E12A1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69DF-EB25-42DD-9AD9-933603C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BB02-AF86-44C4-9F66-F1E5596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850D-B5C4-486C-AA84-064DAFC0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BF4D-04F7-45D2-B631-FEA147D0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FBE-B663-4427-A65B-57F9F3D0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AE5-EEDB-495B-8189-2B4C905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DA0-8840-4221-B3E5-EFEEE7C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251-4E66-49BD-A858-79A51F9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9A0-66B5-4A95-A908-CA40A097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87D-AA19-468D-8899-FFAF192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4EE6-7301-4325-B023-B6AB52AA4C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08B-7E47-4FD6-AE82-923BC27F69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CD17-98E8-4979-9E44-D387DF2E0DC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La célula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En que se diferencia una célula animal de una vege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Dónde se localiza el material heredit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EMBRANA PLASMÁT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071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membrana plasmática representa el límite entre el medio extracelular y el intra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composición química de la membran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an a formar parte lípidos, proteínas y glú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2" descr="membrana"/>
          <p:cNvPicPr/>
          <p:nvPr/>
        </p:nvPicPr>
        <p:blipFill>
          <a:blip r:embed="rId1"/>
          <a:stretch/>
        </p:blipFill>
        <p:spPr>
          <a:xfrm>
            <a:off x="2411280" y="3357720"/>
            <a:ext cx="424836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OMPOSICION QUIMICA DE LA MEMBR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0212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la composición química de la membran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an a formar parte lípidos, proteínas y glúcidos en proporciones aproximadas de 40%, 50% y 10%, respectivamen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ví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memmosaico"/>
          <p:cNvPicPr/>
          <p:nvPr/>
        </p:nvPicPr>
        <p:blipFill>
          <a:blip r:embed="rId1"/>
          <a:stretch/>
        </p:blipFill>
        <p:spPr>
          <a:xfrm>
            <a:off x="5076720" y="2492280"/>
            <a:ext cx="3657600" cy="29815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8"/>
          <p:cNvSpPr/>
          <p:nvPr/>
        </p:nvSpPr>
        <p:spPr>
          <a:xfrm>
            <a:off x="4427640" y="566100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EMBRANA CELUL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células requieren nutrientes del exterior y deben eliminar sustancias de desecho procedentes del metabolismo y mantener su medio interno e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embrana presenta un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meabilidad selectiv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ya que permite el paso de DETERMINADAS  pequeñas molécul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mecanismos de transporte pueden verse en el siguiente esque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ECANISMOS DE TRANSPORTE A TRAVES DE MEMBRA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7" descr="memesquema"/>
          <p:cNvPicPr/>
          <p:nvPr/>
        </p:nvPicPr>
        <p:blipFill>
          <a:blip r:embed="rId1"/>
          <a:stretch/>
        </p:blipFill>
        <p:spPr>
          <a:xfrm>
            <a:off x="395280" y="2205000"/>
            <a:ext cx="820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MECANISMOS DE TRANSPORTE A TRAVES DE MEMBRANA.(moléculas pequeñas)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66"/>
                </a:solidFill>
                <a:uFillTx/>
                <a:latin typeface="Arial"/>
              </a:rPr>
              <a:t>1 Y 2.Difusión simple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el paso de pequeñas moléculas DE DONDE HAY MAS A DONDE HAY MENOS (POR TANTO NO HAY GASTO ENERGÉTICO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realizarse a través de la bicapa lipídica o a través de canales proteíc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1" descr="membtran"/>
          <p:cNvPicPr/>
          <p:nvPr/>
        </p:nvPicPr>
        <p:blipFill>
          <a:blip r:embed="rId1"/>
          <a:stretch/>
        </p:blipFill>
        <p:spPr>
          <a:xfrm>
            <a:off x="4356000" y="2492280"/>
            <a:ext cx="4537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MECANISMOS DE TRANSPORTE A TRAVES DE MEMBRANA.(moléculas pequeñas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Difusión facilitada(3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LÉCULAS  que al no poder atravesar la bicapa lipídica, requieren que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roteínas trasmembranosa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ciliten su pas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s proteínass reciben el nombre de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proteínas transportadora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, arrastra a dicha molécula hacia el interior de la célu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9" descr="membtran"/>
          <p:cNvPicPr/>
          <p:nvPr/>
        </p:nvPicPr>
        <p:blipFill>
          <a:blip r:embed="rId1"/>
          <a:stretch/>
        </p:blipFill>
        <p:spPr>
          <a:xfrm>
            <a:off x="4284720" y="2492280"/>
            <a:ext cx="44067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Arial Black"/>
              </a:rPr>
              <a:t>MECANISMOS DE TRANSPORTE A TRAVES DE MEMBRANA.(moléculas pequeñas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66"/>
                </a:solidFill>
                <a:uFillTx/>
                <a:latin typeface="Arial"/>
              </a:rPr>
              <a:t>El transporte activo</a:t>
            </a:r>
            <a:r>
              <a:rPr b="0" lang="es-ES" sz="2000" spc="-1" strike="noStrike" u="sng">
                <a:solidFill>
                  <a:srgbClr val="ffff66"/>
                </a:solidFill>
                <a:uFillTx/>
                <a:latin typeface="Arial"/>
              </a:rPr>
              <a:t> (4).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e proceso también actúan proteínas de membrana, pero éstas requieren energía, para transportar las moléculas al otro lado de la membra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duce cuando el transporte se realiza de donde hay menos a donde hay m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on ejemplos de transporte activo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omba de Na/K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omba de 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membtran"/>
          <p:cNvPicPr/>
          <p:nvPr/>
        </p:nvPicPr>
        <p:blipFill>
          <a:blip r:embed="rId1"/>
          <a:stretch/>
        </p:blipFill>
        <p:spPr>
          <a:xfrm>
            <a:off x="4788000" y="2771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ranporte de moléculas de gran tamañ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docitosi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el proceso por el que la célula capta partículas del medio externo mediante una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invaginación de la membra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la que se engloba la partícula a ingeri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exo2"/>
          <p:cNvPicPr/>
          <p:nvPr/>
        </p:nvPicPr>
        <p:blipFill>
          <a:blip r:embed="rId1"/>
          <a:stretch/>
        </p:blipFill>
        <p:spPr>
          <a:xfrm>
            <a:off x="4751280" y="2614680"/>
            <a:ext cx="4213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ranporte de moléculas de gran tamañ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ocitosi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Es el mecanismo por el cual las macromoléculas contenidas en vesículas citoplasmáticas son transportadas desde el interior celular hasta la membrana plasmática, para ser vertidas al medio extracelula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memexoci"/>
          <p:cNvPicPr/>
          <p:nvPr/>
        </p:nvPicPr>
        <p:blipFill>
          <a:blip r:embed="rId1"/>
          <a:stretch/>
        </p:blipFill>
        <p:spPr>
          <a:xfrm>
            <a:off x="1835280" y="4149720"/>
            <a:ext cx="5437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exo"/>
          <p:cNvPicPr/>
          <p:nvPr/>
        </p:nvPicPr>
        <p:blipFill>
          <a:blip r:embed="rId1"/>
          <a:stretch/>
        </p:blipFill>
        <p:spPr>
          <a:xfrm>
            <a:off x="1187280" y="422280"/>
            <a:ext cx="65534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Definición de célul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unidad anatómico y funcional de todo ser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e función de autoconservación y autorre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por esto, por lo que se considera la mínima expresión de vida de todo ser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Núcleo cel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núcleo es e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ntro de contro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 la célu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ues contiene toda la información sobre su funcionamiento y el de todos los organismos a los que ésta pertene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 rodeado por un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mbrana nucle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es porosa por donde se comunica con el citoplasma, generalmente está situado en la parte central y presenta forma esférica u ov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interior se encuentran los cromosom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9" descr="nucleo1"/>
          <p:cNvPicPr/>
          <p:nvPr/>
        </p:nvPicPr>
        <p:blipFill>
          <a:blip r:embed="rId1"/>
          <a:stretch/>
        </p:blipFill>
        <p:spPr>
          <a:xfrm>
            <a:off x="5003640" y="2060640"/>
            <a:ext cx="3737160" cy="3959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0"/>
          <p:cNvSpPr/>
          <p:nvPr/>
        </p:nvSpPr>
        <p:spPr>
          <a:xfrm>
            <a:off x="5651640" y="692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7301"/>
                </a:moveTo>
                <a:lnTo>
                  <a:pt x="5775" y="7301"/>
                </a:lnTo>
                <a:lnTo>
                  <a:pt x="6158" y="7667"/>
                </a:lnTo>
                <a:lnTo>
                  <a:pt x="15366" y="7667"/>
                </a:lnTo>
                <a:lnTo>
                  <a:pt x="15924" y="8224"/>
                </a:lnTo>
                <a:lnTo>
                  <a:pt x="15924" y="8772"/>
                </a:lnTo>
                <a:lnTo>
                  <a:pt x="17769" y="8772"/>
                </a:lnTo>
                <a:lnTo>
                  <a:pt x="18134" y="8224"/>
                </a:lnTo>
                <a:lnTo>
                  <a:pt x="18874" y="8224"/>
                </a:lnTo>
                <a:lnTo>
                  <a:pt x="18874" y="13376"/>
                </a:lnTo>
                <a:lnTo>
                  <a:pt x="18134" y="13376"/>
                </a:lnTo>
                <a:lnTo>
                  <a:pt x="17769" y="12828"/>
                </a:lnTo>
                <a:lnTo>
                  <a:pt x="15924" y="12828"/>
                </a:lnTo>
                <a:lnTo>
                  <a:pt x="15924" y="14107"/>
                </a:lnTo>
                <a:lnTo>
                  <a:pt x="6341" y="14107"/>
                </a:lnTo>
                <a:lnTo>
                  <a:pt x="6341" y="9877"/>
                </a:lnTo>
                <a:lnTo>
                  <a:pt x="6158" y="9877"/>
                </a:lnTo>
                <a:lnTo>
                  <a:pt x="5775" y="10243"/>
                </a:lnTo>
                <a:lnTo>
                  <a:pt x="4861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7308720" y="692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323"/>
                </a:moveTo>
                <a:lnTo>
                  <a:pt x="4707" y="7323"/>
                </a:lnTo>
                <a:lnTo>
                  <a:pt x="5090" y="7688"/>
                </a:lnTo>
                <a:lnTo>
                  <a:pt x="14299" y="7688"/>
                </a:lnTo>
                <a:lnTo>
                  <a:pt x="14856" y="8245"/>
                </a:lnTo>
                <a:lnTo>
                  <a:pt x="14856" y="8794"/>
                </a:lnTo>
                <a:lnTo>
                  <a:pt x="16701" y="8794"/>
                </a:lnTo>
                <a:lnTo>
                  <a:pt x="17067" y="8245"/>
                </a:lnTo>
                <a:lnTo>
                  <a:pt x="17806" y="8245"/>
                </a:lnTo>
                <a:lnTo>
                  <a:pt x="17806" y="13398"/>
                </a:lnTo>
                <a:lnTo>
                  <a:pt x="17067" y="13398"/>
                </a:lnTo>
                <a:lnTo>
                  <a:pt x="16701" y="12850"/>
                </a:lnTo>
                <a:lnTo>
                  <a:pt x="14856" y="12850"/>
                </a:lnTo>
                <a:lnTo>
                  <a:pt x="14856" y="14129"/>
                </a:lnTo>
                <a:lnTo>
                  <a:pt x="5273" y="14129"/>
                </a:lnTo>
                <a:lnTo>
                  <a:pt x="5273" y="9899"/>
                </a:lnTo>
                <a:lnTo>
                  <a:pt x="5090" y="9899"/>
                </a:lnTo>
                <a:lnTo>
                  <a:pt x="4707" y="10265"/>
                </a:lnTo>
                <a:lnTo>
                  <a:pt x="3794" y="1026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580000" y="1484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364000" y="1341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7236000" y="14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itoplasm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itoplasma es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uos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de apariencia viscosa, en donde están disueltas muchas sustancias alimentici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e medio encontramos pequeñas estructuras que se comportan como órganos de la célula, y que se llama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gánul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ff66"/>
                </a:solidFill>
                <a:latin typeface="Arial"/>
              </a:rPr>
              <a:t>víd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7236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ORGÁNULOS DE SINTESIS ALMACENAMIENTO Y TRANSPORTE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Los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riboso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que realizan la síntesis de sustancias llamadas proteínas, según ordenes del núcleo. Se encuentran libres en el citoplasma o adosados a la pared del retículo endoplasmá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rer1"/>
          <p:cNvPicPr/>
          <p:nvPr/>
        </p:nvPicPr>
        <p:blipFill>
          <a:blip r:embed="rId1"/>
          <a:stretch/>
        </p:blipFill>
        <p:spPr>
          <a:xfrm>
            <a:off x="4932360" y="3573360"/>
            <a:ext cx="2954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ORGÁNULOS DE SINTESIS ALMACENAMIENTO Y TRANSPORTE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etículo endoplasmát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Consiste en un conjunto de sacos membranosos que forman cavidades comunicados entre si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dos ti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RE.rugo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que presenta ribosomas ados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-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RE li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carece de el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arga del almacenamiento y transporte de sustancias por el citoplasma cel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Aparato de Golg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formado por sacos membranosos aplanados y apilados , no comunicados entre si y rodeados por pequeñas  vesíc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encargan del empaquetamiento y transporte de proteinas y otras sustancias que deben ser exportadas al exterior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golgi1"/>
          <p:cNvPicPr/>
          <p:nvPr/>
        </p:nvPicPr>
        <p:blipFill>
          <a:blip r:embed="rId1"/>
          <a:stretch/>
        </p:blipFill>
        <p:spPr>
          <a:xfrm>
            <a:off x="5780160" y="1203480"/>
            <a:ext cx="2968560" cy="2720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golgi3"/>
          <p:cNvPicPr/>
          <p:nvPr/>
        </p:nvPicPr>
        <p:blipFill>
          <a:blip r:embed="rId2"/>
          <a:stretch/>
        </p:blipFill>
        <p:spPr>
          <a:xfrm>
            <a:off x="5003640" y="3943440"/>
            <a:ext cx="379908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Vacuola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structuras parecidas a bolsas rodeadas por una membrana .En las células animales son pequeñas y numerosa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élulas vegetales hay pocas , a veces una única vacuola y de gran tamaño .Sirven para almacenar agua nutrientes y desech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peroxisomas"/>
          <p:cNvPicPr/>
          <p:nvPr/>
        </p:nvPicPr>
        <p:blipFill>
          <a:blip r:embed="rId1"/>
          <a:stretch/>
        </p:blipFill>
        <p:spPr>
          <a:xfrm>
            <a:off x="5508720" y="549360"/>
            <a:ext cx="226836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Lisosoma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pequeñas vesículas rodeadas por membrana y que contienen enzimas diges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función es digerir los alimentos que llegan a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lisosomas1"/>
          <p:cNvPicPr/>
          <p:nvPr/>
        </p:nvPicPr>
        <p:blipFill>
          <a:blip r:embed="rId1"/>
          <a:stretch/>
        </p:blipFill>
        <p:spPr>
          <a:xfrm>
            <a:off x="1187280" y="1252440"/>
            <a:ext cx="3816360" cy="2584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lisosomas"/>
          <p:cNvPicPr/>
          <p:nvPr/>
        </p:nvPicPr>
        <p:blipFill>
          <a:blip r:embed="rId2"/>
          <a:stretch/>
        </p:blipFill>
        <p:spPr>
          <a:xfrm>
            <a:off x="1619280" y="3933720"/>
            <a:ext cx="219060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Orgánulos de transformación de energía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MITOCONDRI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Células animales y vege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CLOROPLAS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Solo  en células veget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itocond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mitocondrias son los orgánulos celulares encargados de suministrar la mayor parte de la energía necesaria para la actividad celul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úan por tanto, como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entrales energétic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a célul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1" descr="mitocondria"/>
          <p:cNvPicPr/>
          <p:nvPr/>
        </p:nvPicPr>
        <p:blipFill>
          <a:blip r:embed="rId1"/>
          <a:stretch/>
        </p:blipFill>
        <p:spPr>
          <a:xfrm>
            <a:off x="4643280" y="1100160"/>
            <a:ext cx="4105440" cy="2971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mitocondrias3"/>
          <p:cNvPicPr/>
          <p:nvPr/>
        </p:nvPicPr>
        <p:blipFill>
          <a:blip r:embed="rId2"/>
          <a:stretch/>
        </p:blipFill>
        <p:spPr>
          <a:xfrm>
            <a:off x="4284720" y="4135320"/>
            <a:ext cx="460836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itocond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nergía se obtiene a partir del proceso denominado RESPIRACIÓN CELULAR que consiste en la siguiente transform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66"/>
                </a:solidFill>
                <a:latin typeface="Arial"/>
              </a:rPr>
              <a:t>Materia orgánica(glucosa) + O2                       CO2 + H2O + Energía</a:t>
            </a: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485928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amaño cel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1665, Robert Hooke observó con un microscopio un delgado corte de corcho. Hooke notó que el material era poroso. A esos poros, los llamó células. Hooke había observado células muer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os años más tarde, Marcelo Malpighi, anatomista y biólogo italiano, observó células vivas. Fue el primero en estudiar tejidos vivos al microscop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amaño normal de una célula puede variar entr 5 y 50 mic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loroplasto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ánulos exclusivos de células vege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forma redondeada y su tamaño varia de unas células a ot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een una membrana externa y otra interna que forma sacos apilados denomin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gr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clorop1"/>
          <p:cNvPicPr/>
          <p:nvPr/>
        </p:nvPicPr>
        <p:blipFill>
          <a:blip r:embed="rId1"/>
          <a:stretch/>
        </p:blipFill>
        <p:spPr>
          <a:xfrm>
            <a:off x="4716360" y="2565360"/>
            <a:ext cx="424836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loroplasto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cloroplastos son orgánulos exclusivos de las células vegetales. En ellos tiene lugar la fotosíntesis , proceso en el que se transforma la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energía lumín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energía quím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ergía luminosa es captada por un pigmento de color verde  denominado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lorofil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FOTOSINTESI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seres vivos poseedores de clorofila y otros pigmentos, captan energía luminosa procedente del sol y la transforman en energía químic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ESA ENERGIA transforman el agua y el CO2 en compuestos orgánicos (glucosa y otros), liberando oxígen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66"/>
                </a:solidFill>
                <a:latin typeface="Arial"/>
              </a:rPr>
              <a:t>CO2 + H2O + Energía luminosa</a:t>
            </a:r>
            <a:r>
              <a:rPr b="1" lang="pt-PT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ffff66"/>
                </a:solidFill>
                <a:latin typeface="Arial"/>
              </a:rPr>
              <a:t>            Materia orgánica(glucosa) + O2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4427640" y="5589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aracterísticas de la célula vegetal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células vegetales se caracterizan por pose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gruesa </a:t>
            </a: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pare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formada por celulo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Cloroplas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cargados de realizar la fotosínt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</a:t>
            </a: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única vacuol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ocupa gran parte del citopla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Estructuras de soporte y locomoción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ITOESQUELE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junto de filamentos que sirven de soporte a los orgánulos y da forma a la cél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mite el desplazamiento de orgánulos por el citopla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Estructuras de soporte y locomoción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ilios y flage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ili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lagel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unas proyecciones largas y finas de la superficie celular que se encuentran en muchísimas células eucario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prácticamente idénticas, excepto en su longitu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os cilios  son cortos y se encuentran en abunda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os flagelos son más largos y escas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Niveles de organización cel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ELU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EJID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   Asociación de células iden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ÓRGANO 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sociación de tejidos que realiza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función comú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ISTEMAS O APARATOS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sociación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órganos con una función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ORGANIS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1547640" y="2349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"/>
          <p:cNvSpPr/>
          <p:nvPr/>
        </p:nvSpPr>
        <p:spPr>
          <a:xfrm>
            <a:off x="154764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54764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54764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3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Reproducción celular.Mitosi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78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mitosis es el proceso de división celular por el cual se conserva la información genética contenida en su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romosomas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que pasa de esta manera a las sucesivas células a que la mitosis va a dar ori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99ff66"/>
                </a:solidFill>
                <a:latin typeface="Arial"/>
              </a:rPr>
              <a:t>ví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mitoani"/>
          <p:cNvPicPr/>
          <p:nvPr/>
        </p:nvPicPr>
        <p:blipFill>
          <a:blip r:embed="rId1"/>
          <a:stretch/>
        </p:blipFill>
        <p:spPr>
          <a:xfrm>
            <a:off x="5076720" y="2195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/>
          <p:cNvSpPr/>
          <p:nvPr/>
        </p:nvSpPr>
        <p:spPr>
          <a:xfrm>
            <a:off x="356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4" dur="1" fill="hold"/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lasificacion celular.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élulas procari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 células procariota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poseen un núcl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elular delimitado por una membr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organismos procariontes son las células más simples que se conocen. En este grupo se incluyen las algas azul-verdosas y las bacte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élulas eucari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células eucariota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seen un núcl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elular delimitado por una membrana. Estas células forman parte de los tejidos de organismos multicelulares como nosotros.Poseen múltiples orgánulo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élula animal y célula vege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ucari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elula procariot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6" descr="celprocariota"/>
          <p:cNvPicPr/>
          <p:nvPr/>
        </p:nvPicPr>
        <p:blipFill>
          <a:blip r:embed="rId1"/>
          <a:stretch/>
        </p:blipFill>
        <p:spPr>
          <a:xfrm>
            <a:off x="2124000" y="981000"/>
            <a:ext cx="4635720" cy="5614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í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élula eucariot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s células eucariotas se pueden distinguir las siguientes parte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élula anim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       Célula vegetal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mbrana cel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 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red cel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itoplas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mbrana cel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úcle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itoplas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 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ánul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úcl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Orgánu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380360" y="40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305"/>
                </a:moveTo>
                <a:lnTo>
                  <a:pt x="4707" y="7305"/>
                </a:lnTo>
                <a:lnTo>
                  <a:pt x="5090" y="7670"/>
                </a:lnTo>
                <a:lnTo>
                  <a:pt x="14299" y="7670"/>
                </a:lnTo>
                <a:lnTo>
                  <a:pt x="14856" y="8227"/>
                </a:lnTo>
                <a:lnTo>
                  <a:pt x="14856" y="8776"/>
                </a:lnTo>
                <a:lnTo>
                  <a:pt x="16701" y="8776"/>
                </a:lnTo>
                <a:lnTo>
                  <a:pt x="17067" y="8227"/>
                </a:lnTo>
                <a:lnTo>
                  <a:pt x="17806" y="8227"/>
                </a:lnTo>
                <a:lnTo>
                  <a:pt x="17806" y="13380"/>
                </a:lnTo>
                <a:lnTo>
                  <a:pt x="17067" y="13380"/>
                </a:lnTo>
                <a:lnTo>
                  <a:pt x="16701" y="12832"/>
                </a:lnTo>
                <a:lnTo>
                  <a:pt x="14856" y="12832"/>
                </a:lnTo>
                <a:lnTo>
                  <a:pt x="14856" y="14111"/>
                </a:lnTo>
                <a:lnTo>
                  <a:pt x="5273" y="14111"/>
                </a:lnTo>
                <a:lnTo>
                  <a:pt x="5273" y="9881"/>
                </a:lnTo>
                <a:lnTo>
                  <a:pt x="5090" y="9881"/>
                </a:lnTo>
                <a:lnTo>
                  <a:pt x="4707" y="10247"/>
                </a:lnTo>
                <a:lnTo>
                  <a:pt x="3794" y="1024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ÉLULA EUCARIOTA ANIM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11" descr="celanimal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ELULA EUCARIOTA VEGET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5" descr="celvegetal"/>
          <p:cNvPicPr/>
          <p:nvPr/>
        </p:nvPicPr>
        <p:blipFill>
          <a:blip r:embed="rId1"/>
          <a:stretch/>
        </p:blipFill>
        <p:spPr>
          <a:xfrm>
            <a:off x="2268360" y="1773360"/>
            <a:ext cx="5256360" cy="48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AMBRANA PLASMÁTIC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célula está rodeada por una membrana, denominada "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embrana plasmática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embrana delimita el territorio de la célula y controla el contenido químico de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9" descr="membrana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50:43Z</dcterms:created>
  <dc:creator>Francisco</dc:creator>
  <dc:description/>
  <dc:language>en-US</dc:language>
  <cp:lastModifiedBy>inma</cp:lastModifiedBy>
  <dcterms:modified xsi:type="dcterms:W3CDTF">2015-01-13T18:16:58Z</dcterms:modified>
  <cp:revision>111</cp:revision>
  <dc:subject/>
  <dc:title>La célula</dc:title>
</cp:coreProperties>
</file>